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4.jpeg" ContentType="image/jpeg"/>
  <Override PartName="/ppt/media/suction.wav" ContentType="audio/x-wav"/>
  <Override PartName="/ppt/media/image2.png" ContentType="image/png"/>
  <Override PartName="/ppt/media/image25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DBA2-D0B4-4AE2-8FC5-11A113D8C3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8728-BA89-4B2C-A0F6-CC6B88B92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stant Reform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9163-3BD5-4C9E-BB5E-04DCD3F78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was all-powerful and all-good &amp; knew who was going to Heav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63FC-01D5-4BD5-9BCD-AC2DA6375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B291-AB89-4326-ADC7-E40697B34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945-F4DA-4A64-8B5D-1A7A88CE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AF55-A92E-4F6D-9905-531450B1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FCD43-5B6C-4803-8A88-8ED6A819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D6510-04AF-4522-8C83-FAA5101A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1841A-023B-469F-BAD4-D6A982C2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186C9-84C8-48C1-AB11-6222B398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E8C25-C473-41D1-BC6E-AE3ED77B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2139E-7C2E-4A42-A850-BAD2B95B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31CD2-AC36-426F-9399-5E50F780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EC631-0BD3-47E0-8E50-064AF509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FD7D7-CE2D-4DE6-B203-F251EA9B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1D843-6071-4719-8ACE-5BB36DBD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BA6-C16B-467C-9F60-C4B69D33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B6333-9780-4B24-8E93-E2F81BF2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74BF6-B137-410C-BC52-FA3CBD35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E8314-90EC-4132-889E-0677E32E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A647E-6E02-4E03-BAAC-51F74412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7A089-2E11-4119-B5D2-075A4948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8AD88-0E13-4541-B28D-A9E3EBA8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118E7-5398-4C17-B2E7-D8C1B859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435D7-9C9C-46E4-8BA0-11C8E808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A21A9-3903-4C3F-8FE6-286F3604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D139D-2A84-4675-91D5-E3F8D129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358-983D-40FF-AF64-6EF15355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D0FC9-9B12-4CBB-A336-59450B99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E7046-30F2-4655-9558-7BC5BC7C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79981-26C5-468A-9C71-DF50AC67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E88FC-F1BF-48D7-9F0F-0EF0B035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5E3F4-E569-486A-A0DA-169C2AC8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20782-FAF5-4B70-9E76-9516B1EB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9B5FE-E0EA-413D-B0D2-CC5D85E8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0FD2F-0101-408A-AB01-523D2B4B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4540D-ADDE-4E27-80AF-D3BD70C4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1BC42-E659-434B-8219-E3990C96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3224-F727-4EFA-98AD-865B95F2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94E81-2873-4950-9DC8-5D786CFE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582F8-011E-4CD8-8A39-F17B8EF2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8DD03-1561-43DA-8F84-DF640C13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5EF9F-19E5-413B-9504-93AC26BE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977BE-6E19-48B1-AF0B-5695245A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D3081-8761-4AC3-8A47-B11E5E7C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9391B-569E-46BE-87C8-1DB2ADD6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4014E-4598-46DC-A50A-D4D9B384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0C718-E14E-48BD-A0D2-A685C406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E3B8F-F3A8-482C-896E-FDAE462F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ECF2-6782-471F-B9B9-4A9F43AE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B0280-41F6-4508-9725-5779A64D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D70E2-5B0C-4B5B-AF68-F26E3C8B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9E003-7702-4A54-ACE7-5F01F968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EF79A-E4BA-443F-9B66-E789A3D9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ED5B3-2090-4108-9E1C-13B96F98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02E2-3A44-4A4B-8C57-F6C92D3C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0E2B-33AC-434E-9C32-1950030B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5319-53E2-4C84-A528-F6B24EEA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0625-35AE-42ED-9E6E-8702DCDF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2A51-B5BA-4776-8708-6F191718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8627-74F6-4243-BB12-5413050F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5331-097C-4710-B6C4-BDF02CEC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290F-A977-4E9E-A9E7-22FE27D4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D916-CDE6-47C2-A79E-A886A69D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504E-E295-40C3-9FC3-C29ABDBF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C4C4-8CCF-4D4A-850C-EAC47BAD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D0079-0ADD-4DF1-BE95-079BA567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88432-7937-466E-AB58-8F691AC1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24355-3AA9-4CBF-A6E1-DC6D001C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D1AB8-2314-4A2E-8A0E-EBD1D4AA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64F30-7040-4E2A-A4B3-B0AB77A4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163-8A23-4B69-A8A1-F347D524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0CB0E-640E-49CD-B22E-0ABF7B50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BFC73-9FDA-45A3-8E50-79F09F42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B50B9-D557-4262-BC3A-67174F00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EE319-B262-44E0-B3A2-DBC14892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B5609-06D2-41C2-8C5B-90DD808A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B606D-4F06-4110-951C-146482A3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A4C86-7934-4404-B8CC-96AA2FD5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2A254-74BA-4088-8283-81D6D102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2BC02-B09F-4D19-845C-045372C7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AD394-DD5B-4B2D-8452-55AD7783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33A-8BE9-4E3F-BC3A-7BA8A510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00269-7B01-4B4F-8A2D-B34EDA94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00510-6487-45E7-AD07-25CA80BE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30D3F-E2F9-421D-A9E9-E58FC7E1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D6BA9-8480-482D-8802-4A308845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64D49-8A5E-4A97-A078-804ACE90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07417-0FE5-477D-8B08-AC9653F2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B3225-B0FA-46E9-9DD7-FA066E3A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AE71E-871D-4959-9192-F62C8BF3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6D34D-6396-461A-BFE6-DB7E205C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ABB92-A473-4321-8D23-575BE222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C9A0-1568-49A3-8E02-21458A8C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9C223-DE92-47D9-A632-602FED59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BD53C-36AC-44A2-9979-A7C9C5C5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A8F8D-7D06-4193-8CA4-29241720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ACA6D-BCC5-4A0D-BD49-BEAAB3DA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AC37E-E3EE-47AD-A8EF-89087386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CB4E9-F99E-453E-B8D0-0DE92E0F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C826D-4EA6-446A-87FC-C09441BC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1E9FB-A581-4A8F-BB45-E2677277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0A0C6-CAFB-45CE-A497-4702B4C9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21177-D8BE-4022-BF60-0A301B98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B397-6F19-4A6D-B963-FED99DEF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360EF-ABC1-4021-AC44-575CF52E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EBD6A-97B5-4F8F-BD41-2D82C6CB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33B0A-2A74-4753-9D6E-1357D3D1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18844-385B-4A38-96F3-A30B24F0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E6306-6CB1-48DF-98B0-E54948AC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81DFC-5330-44D3-B2AD-5AEF4FC9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A35A5-381C-4EF3-ABA6-F65C49B2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E956E-3494-4C35-9155-BD0F8470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278D6-1014-4975-B24E-DAACB44B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3C3B1-C25F-4D42-9DE6-1799FFF0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341-29FF-41F0-BB75-E97A4816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770D3-6082-4539-9F3E-8CCBD5FE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C6746-3823-4723-AFA5-98EAD38F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9C801-A574-43F6-8B48-86D37D9A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27DC1-C9DB-4630-97F1-B4872371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93127-0275-4BFC-BC11-66310B39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BF755-71DE-4848-96F4-AD187F7B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2AE75-9CE6-49A0-85DB-B33C0AE5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135A2-8EE5-4BEA-8A30-A6D46ADE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33EF5-542C-47DF-9231-399A8D3B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C516E-8FD8-47FC-8737-48104000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C11-94AF-4F84-B1FF-D3C6FF57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44B34-D6C7-47A0-B95B-A230A77E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9AD5A-5AF1-43E3-9933-821FB533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E10B3-D28D-4D50-A55A-AB558862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02452-7AEE-4A7F-9D65-F1254105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A1758-FFF8-4C6C-8457-1A027A33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A06CC-BC7A-4D5B-AF14-6EF7E5E4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2EA10-A977-48D0-871D-A8516717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2EA03-A44C-4FFE-89CB-5A58FEA3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D842A-4654-44FC-AC22-DFF7B47A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95574-02EF-4242-9BA4-DBBC7BC9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ECE-7EF6-4C76-B544-D0611C9F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4AE44-B4A7-4B78-BA89-8CBBB566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9124B-A823-4457-80FD-87F92990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C8E9B-6547-4EAF-8C6E-9E0CF1BD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54078-F7D7-4DE0-866F-7FC6417A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D03F2-4BC5-4F6B-9F1B-0EA6ACD0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CD443-0503-4B8D-B94E-52E8CFC8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8F686-AD50-4583-A134-EB94850B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D707B-969C-473A-B7AA-50133500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48AE9-3E27-4A4E-9414-1E3F686F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BCF0A-A7A0-4C51-B7FB-1A13BA18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E0DA-8D19-4B2B-878F-0ABB06652B62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87B6-BBEF-4BE1-B5D0-A11A16C385B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6CAC-1A02-49FF-96A9-D690A6402C5A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A32A-70BA-4197-B43C-9344E520338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0198-A785-490F-A873-15B4E2EBE28D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7A5E-288A-4F07-832E-153A702CADD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CE55-1A69-4569-9557-73861C152E67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C745-CCD7-41A8-B350-2B07139E0D7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EE3C-B61A-41F2-A8F6-BC36D5C86405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72AA-5F25-4882-BE6D-6AFC34E1124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2778-F78D-447B-91B8-A51AEA863D4F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EFC5-6D48-4C16-B2A2-6A4E4D07281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A49B-3801-472E-92B7-DCEA621D0070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A238-0309-47D6-814C-4D4618EFD08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71F1-57F3-4523-BDBA-50066867256B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BBA9-D9A1-4AE8-AE23-5324CEDF90C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3364-4CD4-4DC0-B59C-356B1B4F8475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3315-D9AB-4DED-BDA9-641607BEE24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030B-04DE-4924-9994-6D42FE074F5B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ECC2-857A-4F61-9B63-0244F83371A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3D0F-4398-46BB-BCAD-949893DFD97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509C-EF7A-45A2-939D-5C8E6CEE03D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89C4-3DBB-4A78-86E7-868C8DF2B3C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EEA6-E476-4CE8-A276-FB13106621C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Title 4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619-17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  <p:sndAc>
      <p:stSnd>
        <p:snd r:embed="rId3" name="suctio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Title 4" descr=""/>
          <p:cNvPicPr/>
          <p:nvPr/>
        </p:nvPicPr>
        <p:blipFill>
          <a:blip r:embed="rId2"/>
          <a:stretch/>
        </p:blipFill>
        <p:spPr>
          <a:xfrm>
            <a:off x="450720" y="682560"/>
            <a:ext cx="8315280" cy="1170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" descr="squanto.jpg"/>
          <p:cNvPicPr/>
          <p:nvPr/>
        </p:nvPicPr>
        <p:blipFill>
          <a:blip r:embed="rId3"/>
          <a:stretch/>
        </p:blipFill>
        <p:spPr>
          <a:xfrm>
            <a:off x="914400" y="2286000"/>
            <a:ext cx="2381400" cy="29433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6" descr="nativehouse.jpg"/>
          <p:cNvPicPr/>
          <p:nvPr/>
        </p:nvPicPr>
        <p:blipFill>
          <a:blip r:embed="rId4"/>
          <a:stretch/>
        </p:blipFill>
        <p:spPr>
          <a:xfrm>
            <a:off x="3565440" y="2133720"/>
            <a:ext cx="5578560" cy="4306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5" name="suction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Bible Commonweal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on-Separatists Puritans- sought to reform Church of England from withi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ed by Govern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John Winthrop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, Puritans set up Massachusetts Bay Colony as a “city upon a hill”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venant with God to build a holy society as a model for humankind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  <p:sndAc>
      <p:stSnd>
        <p:snd r:embed="rId2" name="suction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1" descr="map_world_zone.png"/>
          <p:cNvPicPr/>
          <p:nvPr/>
        </p:nvPicPr>
        <p:blipFill>
          <a:blip r:embed="rId2"/>
          <a:stretch/>
        </p:blipFill>
        <p:spPr>
          <a:xfrm>
            <a:off x="3429000" y="1219320"/>
            <a:ext cx="5257800" cy="3581280"/>
          </a:xfrm>
          <a:prstGeom prst="rect">
            <a:avLst/>
          </a:prstGeom>
          <a:ln w="0">
            <a:noFill/>
          </a:ln>
        </p:spPr>
      </p:pic>
      <p:sp>
        <p:nvSpPr>
          <p:cNvPr id="636" name="TextBox 4"/>
          <p:cNvSpPr/>
          <p:nvPr/>
        </p:nvSpPr>
        <p:spPr>
          <a:xfrm flipH="1" flipV="1" rot="10800000">
            <a:off x="4266000" y="549864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rly Colonial Map circa 16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5" descr="225px-Virginia_dare_stamp.jpg"/>
          <p:cNvPicPr/>
          <p:nvPr/>
        </p:nvPicPr>
        <p:blipFill>
          <a:blip r:embed="rId3"/>
          <a:stretch/>
        </p:blipFill>
        <p:spPr>
          <a:xfrm>
            <a:off x="304920" y="914400"/>
            <a:ext cx="2514600" cy="2286000"/>
          </a:xfrm>
          <a:prstGeom prst="rect">
            <a:avLst/>
          </a:prstGeom>
          <a:ln w="0">
            <a:noFill/>
          </a:ln>
        </p:spPr>
      </p:pic>
      <p:sp>
        <p:nvSpPr>
          <p:cNvPr id="638" name="TextBox 6"/>
          <p:cNvSpPr/>
          <p:nvPr/>
        </p:nvSpPr>
        <p:spPr>
          <a:xfrm>
            <a:off x="457200" y="3276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rginia  D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4" name="suctio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Building the Bay Colon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ove for religious and social harmon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urpose of government to enforce God’s la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oc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ligious leaders wielded powerful political influence over governmen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42" name="Picture 4" descr="theocracy.gif"/>
          <p:cNvPicPr/>
          <p:nvPr/>
        </p:nvPicPr>
        <p:blipFill>
          <a:blip r:embed="rId2"/>
          <a:stretch/>
        </p:blipFill>
        <p:spPr>
          <a:xfrm>
            <a:off x="3581280" y="1600200"/>
            <a:ext cx="5158080" cy="4648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ble Commonweal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ttlers to Massachusetts Bay had sought to purify, or separate from the Church of Englan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leaders in Massachusetts Bay wanted little dissention from religious orthodox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  <p:sndAc>
      <p:stSnd>
        <p:snd r:embed="rId2" name="suction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Religious Dissenter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Anne Hutchins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Roger Willi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elieved 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antinomianism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truly saved need not bother to obey laws of man or God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iled first to Portsmouth and later to New Yor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eached separation of church and sta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mpensation to Indians for la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nded first Baptist church in New Worl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nded Rhode Isla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ligious freedo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  <p:sndAc>
      <p:stSnd>
        <p:snd r:embed="rId2" name="suction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Anne Hutchins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2828880"/>
            <a:ext cx="2210040" cy="265752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first feminist”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52" name="Picture Placeholder 4" descr="anne21.gif"/>
          <p:cNvPicPr/>
          <p:nvPr/>
        </p:nvPicPr>
        <p:blipFill>
          <a:blip r:embed="rId2"/>
          <a:srcRect l="0" t="23307" r="0" b="23307"/>
          <a:stretch/>
        </p:blipFill>
        <p:spPr>
          <a:xfrm rot="454800">
            <a:off x="3516120" y="1125360"/>
            <a:ext cx="4616280" cy="39322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oger Willia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54" name="Content Placeholder 6" descr="rwilliams.jpg"/>
          <p:cNvPicPr/>
          <p:nvPr/>
        </p:nvPicPr>
        <p:blipFill>
          <a:blip r:embed="rId2"/>
          <a:stretch/>
        </p:blipFill>
        <p:spPr>
          <a:xfrm>
            <a:off x="2438280" y="2133720"/>
            <a:ext cx="4419720" cy="3200400"/>
          </a:xfrm>
          <a:prstGeom prst="rect">
            <a:avLst/>
          </a:prstGeom>
          <a:ln w="0">
            <a:noFill/>
          </a:ln>
        </p:spPr>
      </p:pic>
      <p:sp>
        <p:nvSpPr>
          <p:cNvPr id="655" name="TextBox 8"/>
          <p:cNvSpPr/>
          <p:nvPr/>
        </p:nvSpPr>
        <p:spPr>
          <a:xfrm>
            <a:off x="3352680" y="5562720"/>
            <a:ext cx="27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unding of Rhode I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suction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r>
              <a:rPr b="0" lang="en-US" sz="41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04617b"/>
                </a:solidFill>
                <a:latin typeface="Calibri"/>
              </a:rPr>
              <a:t>New England Spreads Out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verend Thomas Hooker led an energetic group of Puritans to Connectic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undamental Orders of Connectic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rn constitu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tablished regime democratically controlled by substantial citize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rst written constitution in colon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58" name="Picture 3" descr="hooker.jpg"/>
          <p:cNvPicPr/>
          <p:nvPr/>
        </p:nvPicPr>
        <p:blipFill>
          <a:blip r:embed="rId2"/>
          <a:stretch/>
        </p:blipFill>
        <p:spPr>
          <a:xfrm>
            <a:off x="2057400" y="5153040"/>
            <a:ext cx="5079960" cy="1704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ine and New Hampshi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855440"/>
            <a:ext cx="4040280" cy="1725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Sir Ferdinando Gorges founded Maine for trading. Maine became part of Massachusetts until 1820 Missouri Compromi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45440" y="1829160"/>
            <a:ext cx="4041720" cy="1676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New Hampshire was founded by John Mason for trading and fishing reas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62" name="Content Placeholder 10" descr="4316.jpg"/>
          <p:cNvPicPr/>
          <p:nvPr/>
        </p:nvPicPr>
        <p:blipFill>
          <a:blip r:embed="rId2"/>
          <a:stretch/>
        </p:blipFill>
        <p:spPr>
          <a:xfrm>
            <a:off x="609480" y="3733920"/>
            <a:ext cx="3349800" cy="2627280"/>
          </a:xfrm>
          <a:prstGeom prst="rect">
            <a:avLst/>
          </a:prstGeom>
          <a:ln w="0">
            <a:noFill/>
          </a:ln>
        </p:spPr>
      </p:pic>
      <p:pic>
        <p:nvPicPr>
          <p:cNvPr id="663" name="Content Placeholder 11" descr="23063453.jpg"/>
          <p:cNvPicPr/>
          <p:nvPr/>
        </p:nvPicPr>
        <p:blipFill>
          <a:blip r:embed="rId3"/>
          <a:stretch/>
        </p:blipFill>
        <p:spPr>
          <a:xfrm>
            <a:off x="4800600" y="3352680"/>
            <a:ext cx="3809880" cy="3124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suctio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stant Re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tin Luther &amp;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95 The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itique of Indulg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ble alone was word of Go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ople are saved by faith alo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parks mainland European Protestant Re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6" name="Content Placeholder 6" descr="Martin_Luther_Nailing_Theses_1.jpg"/>
          <p:cNvPicPr/>
          <p:nvPr/>
        </p:nvPicPr>
        <p:blipFill>
          <a:blip r:embed="rId2"/>
          <a:stretch/>
        </p:blipFill>
        <p:spPr>
          <a:xfrm>
            <a:off x="4927680" y="1920960"/>
            <a:ext cx="3479760" cy="4433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Early Colonial Native American Wa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675 King Philip’s W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acom led a last effort to stop colonial settl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nce burned to the ground and a massacre occurr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were the results of King Philip’s Wa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66" name="Picture 6" descr="Attack-final-rev-2.jpg"/>
          <p:cNvPicPr/>
          <p:nvPr/>
        </p:nvPicPr>
        <p:blipFill>
          <a:blip r:embed="rId2"/>
          <a:stretch/>
        </p:blipFill>
        <p:spPr>
          <a:xfrm>
            <a:off x="2666880" y="4267080"/>
            <a:ext cx="4364280" cy="1905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Seeds of Colonial Unity and Independenc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New England Confederation form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te for protection against the Indians, French and Dutc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ymouth, Massachusetts Bay, Hartford &amp; New Hav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gan tradition of colonies not asking the English crown for permission to a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0" name="Picture 11" descr="500px-NewEnglandConfederation.png"/>
          <p:cNvPicPr/>
          <p:nvPr/>
        </p:nvPicPr>
        <p:blipFill>
          <a:blip r:embed="rId2"/>
          <a:stretch/>
        </p:blipFill>
        <p:spPr>
          <a:xfrm>
            <a:off x="5029200" y="3733920"/>
            <a:ext cx="3048120" cy="2266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Calibri"/>
              </a:rPr>
              <a:t>The Navigation Acts and Mercantilism </a:t>
            </a:r>
            <a:br>
              <a:rPr sz="4100"/>
            </a:b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0" y="159984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avigation Ac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ertain goods shipped from a New World port were to go only to Britain or to another New World colonial por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ds from the colonies were to be provided only to Engl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0" y="167616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Mercantil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Economic theory that benefits the mother country at the expense of the colon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  <p:sndAc>
      <p:stSnd>
        <p:snd r:embed="rId2" name="suction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New Netherlan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1609 Henry Hudson ventured into Delaware and New York Bay &amp; claimed the area for the Netherl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6" name="Content Placeholder 4" descr="LP3756_HenryHudson_large.jpg"/>
          <p:cNvPicPr/>
          <p:nvPr/>
        </p:nvPicPr>
        <p:blipFill>
          <a:blip r:embed="rId2"/>
          <a:stretch/>
        </p:blipFill>
        <p:spPr>
          <a:xfrm>
            <a:off x="2514600" y="3276720"/>
            <a:ext cx="4819680" cy="2819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w Netherlan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1664 Charles II granted modern day New York to his brother the Duke of York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ritish troops landed and quickly eliminated the Dutch from the are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9" name="Content Placeholder 4" descr="ridgewood_colonial_heritage_no_box_P0000015344S0013T2.jpg"/>
          <p:cNvPicPr/>
          <p:nvPr/>
        </p:nvPicPr>
        <p:blipFill>
          <a:blip r:embed="rId2"/>
          <a:stretch/>
        </p:blipFill>
        <p:spPr>
          <a:xfrm>
            <a:off x="4648320" y="2114640"/>
            <a:ext cx="4038480" cy="4046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ennsylvania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Holy Experimen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unded by William Penn as a haven for Quakers in 168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ousand of squatters already lived in Pennsylvan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iladelphia- one of the first “planned” cities &amp; unofficial “capital” of colon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olitionis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82" name="Content Placeholder 4" descr="QuakersPennsylvanie.jpg"/>
          <p:cNvPicPr/>
          <p:nvPr/>
        </p:nvPicPr>
        <p:blipFill>
          <a:blip r:embed="rId2"/>
          <a:stretch/>
        </p:blipFill>
        <p:spPr>
          <a:xfrm>
            <a:off x="5070600" y="2151000"/>
            <a:ext cx="3193920" cy="397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racteristics of Southern Colonie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th Carolina, North Carolina, Virginia, Maryland, Georgi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antation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laves and slave co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major seapo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cated near Spanish Florida and French Louisian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85" name="Content Placeholder 4" descr="Southern-Colonies-1776.jpg"/>
          <p:cNvPicPr/>
          <p:nvPr/>
        </p:nvPicPr>
        <p:blipFill>
          <a:blip r:embed="rId2"/>
          <a:stretch/>
        </p:blipFill>
        <p:spPr>
          <a:xfrm>
            <a:off x="4648320" y="1295280"/>
            <a:ext cx="4038480" cy="4695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racteristics of New England Coloni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ssachusetts Bay, Connecticut, Rhode Island, New Hampshi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arious relig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verse economicall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old Mines of New England (the sea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edisposed to early public educ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88" name="Content Placeholder 4" descr="ColonialHomesOnBenefitStreet.jpg"/>
          <p:cNvPicPr/>
          <p:nvPr/>
        </p:nvPicPr>
        <p:blipFill>
          <a:blip r:embed="rId2"/>
          <a:stretch/>
        </p:blipFill>
        <p:spPr>
          <a:xfrm>
            <a:off x="4648320" y="1523880"/>
            <a:ext cx="4038480" cy="4116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racteristics of the Middle Coloni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w York, New Jersey, Delaware &amp; Pennsylvan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rtile soil / Bread Colon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thically diverse pop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iderable economic and social democr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91" name="Content Placeholder 4" descr="benjamin-franklin.jpg"/>
          <p:cNvPicPr/>
          <p:nvPr/>
        </p:nvPicPr>
        <p:blipFill>
          <a:blip r:embed="rId2"/>
          <a:stretch/>
        </p:blipFill>
        <p:spPr>
          <a:xfrm>
            <a:off x="4648320" y="2200320"/>
            <a:ext cx="4038480" cy="3875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P PAR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nalyze The Mayflower Compact using AP PARTS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uthor 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Who created the source? What is their point of view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Place and Tim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 -Where and when was the source produced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Prior Knowledg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 - What do you already know that would further your understanding of this sources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udienc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 - For whom was the source created? Does this affect the reliability of the source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Reaso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 - Why was this source produced at the time is was produced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Main Ide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 - What is the source trying to convey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Significanc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 - Why is this source important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  <p:sndAc>
      <p:stSnd>
        <p:snd r:embed="rId2" name="suctio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ohn Calvin and predestin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536 Institutes of the Christian Relig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ly predestined go to heav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d works could not save those whom predestination had marked for he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9" name="Content Placeholder 4" descr="John_Calvin_2_in_Library_1-708209.jpg"/>
          <p:cNvPicPr/>
          <p:nvPr/>
        </p:nvPicPr>
        <p:blipFill>
          <a:blip r:embed="rId2"/>
          <a:stretch/>
        </p:blipFill>
        <p:spPr>
          <a:xfrm>
            <a:off x="5056200" y="1920960"/>
            <a:ext cx="3222720" cy="4479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stant Work Ethic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11" name="Content Placeholder 3" descr="P work ethic.jpg"/>
          <p:cNvPicPr/>
          <p:nvPr/>
        </p:nvPicPr>
        <p:blipFill>
          <a:blip r:embed="rId2"/>
          <a:stretch/>
        </p:blipFill>
        <p:spPr>
          <a:xfrm>
            <a:off x="4648320" y="1905120"/>
            <a:ext cx="3873240" cy="3962160"/>
          </a:xfrm>
          <a:prstGeom prst="rect">
            <a:avLst/>
          </a:prstGeom>
          <a:ln w="0">
            <a:noFill/>
          </a:ln>
        </p:spPr>
      </p:pic>
      <p:sp>
        <p:nvSpPr>
          <p:cNvPr id="612" name="TextBox 5"/>
          <p:cNvSpPr/>
          <p:nvPr/>
        </p:nvSpPr>
        <p:spPr>
          <a:xfrm flipH="1">
            <a:off x="1065960" y="2438280"/>
            <a:ext cx="3048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alvinists known for work ethic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  <a:ea typeface="Arial"/>
              </a:rPr>
              <a:t>dusk to dawn to prove their worthin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suctio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England’s Purita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me English Puritans wanted to further purify King Henry VIII’s Anglican Churc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eparatist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vowed to break away entirely from the Church of England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5" name="Content Placeholder 4" descr="puritans.jpg"/>
          <p:cNvPicPr/>
          <p:nvPr/>
        </p:nvPicPr>
        <p:blipFill>
          <a:blip r:embed="rId2"/>
          <a:stretch/>
        </p:blipFill>
        <p:spPr>
          <a:xfrm>
            <a:off x="4648320" y="1828800"/>
            <a:ext cx="4038480" cy="2798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Pilgrims (Separatists) arrive in Plymouth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fter 65 days at sea, the Pilgrims arrived in Plymouth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ess than half Pilgrims on Mayflower were Separatis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Why would others travel as well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8" name="Content Placeholder 4" descr="the_mayflower.jpg"/>
          <p:cNvPicPr/>
          <p:nvPr/>
        </p:nvPicPr>
        <p:blipFill>
          <a:blip r:embed="rId2"/>
          <a:stretch/>
        </p:blipFill>
        <p:spPr>
          <a:xfrm>
            <a:off x="4648320" y="18288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ilgrim lead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157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4617b"/>
                </a:solidFill>
                <a:uFillTx/>
                <a:latin typeface="Constantia"/>
              </a:rPr>
              <a:t>Myles Standish 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- great military leader &amp; Indian negotiat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87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Governor </a:t>
            </a:r>
            <a:r>
              <a:rPr b="1" lang="en-US" sz="2400" spc="-1" strike="noStrike" u="sng">
                <a:solidFill>
                  <a:srgbClr val="04617b"/>
                </a:solidFill>
                <a:uFillTx/>
                <a:latin typeface="Constantia"/>
              </a:rPr>
              <a:t>William Bradf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Elected governor of Plymouth 30 ti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Helped develop fur, fish &amp; lumber tra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2" name="Content Placeholder 7" descr="standish.jpg"/>
          <p:cNvPicPr/>
          <p:nvPr/>
        </p:nvPicPr>
        <p:blipFill>
          <a:blip r:embed="rId2"/>
          <a:stretch/>
        </p:blipFill>
        <p:spPr>
          <a:xfrm>
            <a:off x="685800" y="3657600"/>
            <a:ext cx="3379680" cy="26496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7" descr=""/>
          <p:cNvPicPr/>
          <p:nvPr/>
        </p:nvPicPr>
        <p:blipFill>
          <a:blip r:embed="rId3"/>
          <a:stretch/>
        </p:blipFill>
        <p:spPr>
          <a:xfrm>
            <a:off x="5638680" y="3886200"/>
            <a:ext cx="1806840" cy="2971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suctio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yflower Compa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676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greement to form a gover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mit to will of the major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ising step towards self-gover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6" name="Picture 8" descr=""/>
          <p:cNvPicPr/>
          <p:nvPr/>
        </p:nvPicPr>
        <p:blipFill>
          <a:blip r:embed="rId2"/>
          <a:stretch/>
        </p:blipFill>
        <p:spPr>
          <a:xfrm>
            <a:off x="2286000" y="3352680"/>
            <a:ext cx="4610160" cy="3257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1176120"/>
            <a:ext cx="2590920" cy="804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The First Thanksgivin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743200" cy="35816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3000"/>
          </a:bodyPr>
          <a:p>
            <a:pPr>
              <a:spcBef>
                <a:spcPts val="2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rrible winter of 162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ly half colony surviv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spcBef>
                <a:spcPts val="2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621 brought bountiful harv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spcBef>
                <a:spcPts val="2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ed English could survive in uninviting reg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9" name="Picture Placeholder 4" descr="first_thanksgiving.jpg"/>
          <p:cNvPicPr/>
          <p:nvPr/>
        </p:nvPicPr>
        <p:blipFill>
          <a:blip r:embed="rId2"/>
          <a:srcRect l="6791" t="0" r="6791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21:08:54Z</dcterms:created>
  <dc:creator>brissettematthew</dc:creator>
  <dc:description/>
  <dc:language>en-US</dc:language>
  <cp:lastModifiedBy>emily.johnson</cp:lastModifiedBy>
  <dcterms:modified xsi:type="dcterms:W3CDTF">2012-09-11T12:44:02Z</dcterms:modified>
  <cp:revision>52</cp:revision>
  <dc:subject/>
  <dc:title>Settling the Northern Colonies  1619-1700</dc:title>
</cp:coreProperties>
</file>